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8D0F-148E-445E-BB87-ABFEF08D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D460-9454-4A0E-9599-165096EA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BC8-025F-4AE4-92AC-76E4BD10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433-74A8-4830-9264-A8EF08BC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DE4-C8B2-4F84-97DF-DD2805A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3BF-3699-407C-83C4-FC97DE03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94F-0A43-4754-BA4C-20901ED3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AFB-9988-44E5-AF87-B01B964A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45B-27D5-4FA0-945F-FE1CFF1E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E7F-C347-4031-A47A-028C00DC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A8D-4CB0-405A-8590-9EBC94B7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41F-FE53-4265-85D2-04D134A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43F-4385-4E4A-967D-0FDC717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4DE-49BA-4E40-AAD7-0958A7A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717-5092-4401-8921-ED5C681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A56-5B1B-4D72-8B3A-166BE99B1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 shouted loudly, “Look out below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’t believe you said that.” the mother said, with pain in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094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ways have to sit in the back!” the kid whined lou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838080" y="4114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irl said in a devastated voice, “You said you would love me foreve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5800" y="5410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d catch me!” the child said to the father, play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58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ma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438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man said softly, “I believe in mirac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3048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you think you’re grounded?”the father said angrily to the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2120" y="4038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ehind you! A monster!” the girls said with terror in her v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38080" y="50292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 Merry Christmas Mrs. Smith!” the girls said swee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1430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al announced stiffly, “The following students are requested for a conference in the office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1:35:52Z</dcterms:created>
  <dc:creator>cathleen.carpenter</dc:creator>
  <dc:description/>
  <dc:language>en-US</dc:language>
  <cp:lastModifiedBy>Dan Olsen</cp:lastModifiedBy>
  <dcterms:modified xsi:type="dcterms:W3CDTF">2011-04-05T13:03:23Z</dcterms:modified>
  <cp:revision>4</cp:revision>
  <dc:subject/>
  <dc:title>Slide 1</dc:title>
</cp:coreProperties>
</file>